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25B9E0-2AC8-43DB-90EF-E26F45A7D9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1C38E5-94A0-4793-A2B8-66BA1EBD0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52616E-05F4-4B6E-A7AB-034DF9F518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788C0D-692D-4AEB-8234-0D1779558C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CA35D9D-ED64-431E-82AA-BFD33A7AD9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962000" y="617400"/>
            <a:ext cx="2722680" cy="2041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9820FE-F2BD-42A9-B544-FEE3BB8129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87A597-278C-408B-BA3F-8066F7DCE6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4CCE0A-52A7-417F-8AD9-8CD22A68BD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5A6C1D-271D-4245-A504-36EB05261D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C1ABA0-1BB1-424E-B306-0CEBAECB79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5B62E8-0BD3-4878-B3A5-5EAB5BE5D1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78C3BB-B692-43FA-8239-857859811A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8E0BF6-BF48-4F72-9EFA-4E476C71FA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2680" cy="20415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64840" y="2781000"/>
            <a:ext cx="5737320" cy="579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ECCE8D-1881-430B-95A4-B955662E3F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structor describes exerci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udents describe, in writing, their view of software development their organiz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ral volunteers are asked to read their view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ss engages in short discus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e instructor facilitates the discus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ther instructor observes and records the class attitude, experience, and plans concerning software development at the organiz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ss written comments are collected and saved for conclusion lectu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71E317-825D-41E0-AAA4-7F112DCB39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936800" y="598320"/>
            <a:ext cx="2774880" cy="2081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BE8A9C-B294-4732-8E84-B9E2F802F9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7600" cy="3419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10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the perspective of the individual achieving a certification, there are four interrelated reasons why individuals want to attain a certifica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knowledge or skil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presti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marketa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compen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viously, by virtue of going through the educational process and completing the knowledge and/or skill demonstration required by a certification, the individual will have gained in knowledge and/or skill. From an interpersonal standpoint, this designation should translate into higher levels of prestige within the individual’s profession. But, perhaps more importantly from the individual’s perspective, the attainment of a certification and the accompanying acknowledgement of knowledge and/or skills acquired should translate into increased ability to move within the profession either laterally within or between organizations or vertically to higher-level position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lly, with the attainment of a certification and the acknowledgement of knowledge and skills acquired a justification for increases in compensation exists. And, in fact, most organization, recognize that the attainment of the better known and more applicable certifications do translate into increases in compens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6159CE-D676-469D-A95D-D5BAADE1AE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36800" y="598320"/>
            <a:ext cx="2774880" cy="2081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72DA321-FC19-4868-8893-8536B17A85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2D67032-C1CD-4333-A3AA-EB5AF8F428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5"/>
          <p:cNvSpPr/>
          <p:nvPr/>
        </p:nvSpPr>
        <p:spPr>
          <a:xfrm>
            <a:off x="3884760" y="8659800"/>
            <a:ext cx="2974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B2C712-60FC-45C1-BF78-8684912186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960560" y="61452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58360" y="2774520"/>
            <a:ext cx="5751720" cy="57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01400" y="228240"/>
            <a:ext cx="759924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01400" y="3683160"/>
            <a:ext cx="83199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4880" y="108108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4880" y="3683160"/>
            <a:ext cx="406008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1444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7480" y="108108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0140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1444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7480" y="3683160"/>
            <a:ext cx="26787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C6F9-4809-487B-A2D4-5B0F9518A33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0F02-B5A6-4412-BFAC-7E17301699E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52A-79A0-46DE-B6E7-739A148E11A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D386-4F09-46FB-9D0F-0E6220020CA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Placeholder 5" descr=""/>
          <p:cNvPicPr/>
          <p:nvPr/>
        </p:nvPicPr>
        <p:blipFill>
          <a:blip r:embed="rId3"/>
          <a:srcRect l="9028" t="0" r="0" b="0"/>
          <a:stretch/>
        </p:blipFill>
        <p:spPr>
          <a:xfrm>
            <a:off x="6059520" y="0"/>
            <a:ext cx="3084480" cy="6375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-17640"/>
            <a:ext cx="6059520" cy="640080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380880" y="5492880"/>
            <a:ext cx="478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ittsburgh, PA  152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4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2CC9-C18C-4514-94FC-B0875615CC6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D37F-08FE-46BA-A5BF-EE82165F7DF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3"/>
          <p:cNvSpPr/>
          <p:nvPr/>
        </p:nvSpPr>
        <p:spPr>
          <a:xfrm>
            <a:off x="4413240" y="6411960"/>
            <a:ext cx="2019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EA19-50E0-44A2-B6E6-611D2C77C04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A187-CB2B-4841-AB92-E9075A76DA2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"/>
          <p:cNvPicPr/>
          <p:nvPr/>
        </p:nvPicPr>
        <p:blipFill>
          <a:blip r:embed="rId3"/>
          <a:srcRect l="5173" t="0" r="0" b="0"/>
          <a:stretch/>
        </p:blipFill>
        <p:spPr>
          <a:xfrm>
            <a:off x="11160" y="1098720"/>
            <a:ext cx="3227400" cy="5241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44EE-050A-433B-89DA-C742EA3EC94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1B3B-BD8C-4A86-9C11-EEF0662BDF0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0" y="-17640"/>
            <a:ext cx="9144000" cy="6355080"/>
          </a:xfrm>
          <a:prstGeom prst="rect">
            <a:avLst/>
          </a:prstGeom>
          <a:solidFill>
            <a:srgbClr val="005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3"/>
          <a:stretch/>
        </p:blipFill>
        <p:spPr>
          <a:xfrm>
            <a:off x="266760" y="6480000"/>
            <a:ext cx="3835440" cy="25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6059520" y="6392880"/>
            <a:ext cx="3084480" cy="46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3"/>
          <p:cNvSpPr/>
          <p:nvPr/>
        </p:nvSpPr>
        <p:spPr>
          <a:xfrm>
            <a:off x="4413240" y="6411960"/>
            <a:ext cx="201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PSP Fundamentals: Day 2 Age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© 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6502320" y="6411960"/>
            <a:ext cx="1873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  <a:ea typeface="Arial"/>
              </a:rPr>
              <a:t>DISTRIBUTION STATEMENT Please copy and paste the appropriate distribution statement into this space.]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07D5-6FF3-47BE-BFFB-7CD67D57A1F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1E08-C406-4BFA-8324-A2093AC21F8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053F-519F-4DE1-ABF4-7123CE5A37D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E319-D4C4-40BF-B413-ABA947C6E4F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0" y="6340320"/>
            <a:ext cx="9144000" cy="517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9F1A-26B0-492C-98BD-A39E647067B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3"/>
          <p:cNvSpPr/>
          <p:nvPr/>
        </p:nvSpPr>
        <p:spPr>
          <a:xfrm>
            <a:off x="4413240" y="6411960"/>
            <a:ext cx="20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September 20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2016 Carnegie Mellon Univers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285840" y="6470640"/>
            <a:ext cx="3816360" cy="2588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6502320" y="641196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This material has been approved for public release and unlimited distribution. Please see Copyright notice for non-US Government use and distribution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207280" y="640404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50C6-A43A-451A-83AE-FD7B3E9C21D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Placeholder 7"/>
          <p:cNvSpPr/>
          <p:nvPr/>
        </p:nvSpPr>
        <p:spPr>
          <a:xfrm>
            <a:off x="401760" y="39600"/>
            <a:ext cx="53467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SP Fundamentals: Day 2 Agen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P I - Course Overview - </a:t>
            </a:r>
            <a:fld id="{26AF3CA4-17FB-4E7A-97D9-FD00AD4096D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7599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01400" y="1081080"/>
            <a:ext cx="83199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169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7136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17604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Intro%20EX.doc" TargetMode="External"/><Relationship Id="rId2" Type="http://schemas.openxmlformats.org/officeDocument/2006/relationships/hyperlink" Target="file:///L1%20Introduction%20to%20PSP.ppt" TargetMode="External"/><Relationship Id="rId3" Type="http://schemas.openxmlformats.org/officeDocument/2006/relationships/hyperlink" Target="file:///Using%20PSP0.ppt" TargetMode="External"/><Relationship Id="rId4" Type="http://schemas.openxmlformats.org/officeDocument/2006/relationships/hyperlink" Target="file:///ASGKIT%20PROG1.doc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Week1Day2/L2%20Process%20Measurement.ppt" TargetMode="External"/><Relationship Id="rId2" Type="http://schemas.openxmlformats.org/officeDocument/2006/relationships/hyperlink" Target="file:///../Week1Day2/ASGKIT%20Counting%20Std.doc" TargetMode="External"/><Relationship Id="rId3" Type="http://schemas.openxmlformats.org/officeDocument/2006/relationships/hyperlink" Target="file:///../Week1Day2/ASGKIT%20Coding%20Std.doc" TargetMode="External"/><Relationship Id="rId4" Type="http://schemas.openxmlformats.org/officeDocument/2006/relationships/hyperlink" Target="file:///../Week1Day2/Using%20PSP0.1.ppt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"/>
          <p:cNvSpPr/>
          <p:nvPr/>
        </p:nvSpPr>
        <p:spPr>
          <a:xfrm>
            <a:off x="1028880" y="1965240"/>
            <a:ext cx="634176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Course Overview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5216040" y="1976400"/>
            <a:ext cx="267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695"/>
                </a:solidFill>
                <a:latin typeface="Arial"/>
              </a:rPr>
              <a:t>S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809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 Avail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72640" y="1550520"/>
            <a:ext cx="7559640" cy="2946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ors will be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ing class hours each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class by phone or e-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683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65080" y="1541160"/>
            <a:ext cx="7880400" cy="4187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learn the PSP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ng the assigned r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ing the class lectures, tutorials, and worksh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ing th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plan to spend two weeks of classroom time and a few additional days outside the class to complete the cou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tudent is expected to make this commi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809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nd Rules for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23400" y="1525320"/>
            <a:ext cx="7891560" cy="4917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1000"/>
          </a:bodyPr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here on time; we will start on time each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nd all sessions; discuss any exceptions with instruc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this room a “quiet zone” during lab periods; move conversations outs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use the PSP techniques/methods on the assignments.  Your goal is to learn the process, not just to write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n in assignments that are correct, complete, and in the proper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304920" y="1447920"/>
          <a:ext cx="8454960" cy="344304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overview and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1"/>
                        </a:rPr>
                        <a:t>introductory exerc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2"/>
                        </a:rPr>
                        <a:t>L1. Introduction to the PSP and T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3"/>
                        </a:rPr>
                        <a:t>Using PSP0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4"/>
                        </a:rPr>
                        <a:t>Program 1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304920" y="1447920"/>
          <a:ext cx="8454960" cy="387504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1"/>
                        </a:rPr>
                        <a:t>L2. Process measu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296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2"/>
                        </a:rPr>
                        <a:t>Size counting standard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3"/>
                        </a:rPr>
                        <a:t>Coding standard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0a50e1"/>
                          </a:solidFill>
                          <a:uFillTx/>
                          <a:latin typeface="Arial"/>
                          <a:hlinkClick r:id="rId4"/>
                        </a:rPr>
                        <a:t>Using PSP0.1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2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04920" y="1447920"/>
          <a:ext cx="8454960" cy="370188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. Estimating with PROBE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PSP1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3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04920" y="1447920"/>
          <a:ext cx="8454960" cy="349884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. Estimating with PROBE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PSP1.1 tu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4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genda - Week 1 Day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04920" y="1447920"/>
          <a:ext cx="8454960" cy="4324320"/>
        </p:xfrm>
        <a:graphic>
          <a:graphicData uri="http://schemas.openxmlformats.org/drawingml/2006/table">
            <a:tbl>
              <a:tblPr/>
              <a:tblGrid>
                <a:gridCol w="1331640"/>
                <a:gridCol w="7123320"/>
              </a:tblGrid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. Using PSP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im report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d code review checklists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 feedback and eval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23120" rIns="123120" tIns="0" bIns="108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3120" rIns="123120" tIns="0" bIns="10800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o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3120" marR="123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1400" y="228240"/>
            <a:ext cx="8310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Course Ho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unfinished program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im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and code review checklist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reading for week 2: Chapters 8 to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7040" y="546120"/>
            <a:ext cx="8506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Course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304920" y="1447920"/>
          <a:ext cx="8454960" cy="2649240"/>
        </p:xfrm>
        <a:graphic>
          <a:graphicData uri="http://schemas.openxmlformats.org/drawingml/2006/table">
            <a:tbl>
              <a:tblPr/>
              <a:tblGrid>
                <a:gridCol w="2819160"/>
                <a:gridCol w="2816280"/>
                <a:gridCol w="2819520"/>
              </a:tblGrid>
              <a:tr h="687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stimated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im re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2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list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read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week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80920" y="8204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85960" y="1550880"/>
            <a:ext cx="8007120" cy="47102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or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logistics and building 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introd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you will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8100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04760" y="168408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“Question/Comment” sheet to describe your view of software development issues and problems in your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you finish your responses, we will have a class discussion about software development in your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4360320" y="5884920"/>
            <a:ext cx="2096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3554280" y="559764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683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P Course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75800" y="1562040"/>
            <a:ext cx="7851960" cy="4292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4480" indent="-144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software process course.  The objectives ar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e you to a process-based approach to developing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measure and analyze your personal software process (PS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use process data to improve your personal perform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you how to apply these methods to other structured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0" y="1136520"/>
            <a:ext cx="4103640" cy="529452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06200" y="966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I-Certified PSP Develop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1600" y="1747800"/>
            <a:ext cx="47926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-certified professionals will realize an increas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552840" y="4273200"/>
            <a:ext cx="5216400" cy="1662120"/>
          </a:xfrm>
          <a:prstGeom prst="rect">
            <a:avLst/>
          </a:prstGeom>
          <a:solidFill>
            <a:srgbClr val="dfdbcb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ly or wrongly, companies place a value on certification, and it will up your salar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440" indent="-16632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W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pri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5536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Cours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85600" y="1577880"/>
            <a:ext cx="7559640" cy="4584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must know a programming langu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should have completed the pre-re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read simple formal no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development enviro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soft Word, Excel and Access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55360" y="871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852120" y="1528920"/>
            <a:ext cx="3630600" cy="4125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SP Part I: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 to the PSP and T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SP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5203440" y="1539720"/>
            <a:ext cx="3660840" cy="4508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SP Part II: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machine design and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ver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5536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83800" y="1525320"/>
            <a:ext cx="755964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course reading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 course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cture:  review key topics from text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or report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-course ho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78040" y="1619280"/>
            <a:ext cx="7664400" cy="3672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ctors that affect your evaluation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the data that you subm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leteness and consistency of your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erence to the proper order and format of assignment submi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r analysis of your P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0:15:08Z</dcterms:modified>
  <cp:revision>134</cp:revision>
  <dc:subject/>
  <dc:title>No Slide Title</dc:title>
</cp:coreProperties>
</file>